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CB7-390C-441D-845A-8B99CC0E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A0C-FFFD-4A49-B526-29E2B13A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0F4-AC23-44A2-B5D8-998379B7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8A5-E7E9-421A-9668-ADDED5B7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528-1AFF-4505-99DF-A64CC21A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BFB-3369-438F-ABA8-7F778606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584-3495-48CF-AD21-05333E14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FE7-66A4-46B1-B3D4-480CD229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DF7-C3A4-4070-B300-7BB6894C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E91-EFC1-4017-9532-015B7F80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B92-23E9-44B4-9713-BEFD4E57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892-BFA5-4B9D-BA34-B0F7EA5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7704-F74A-4E40-9412-EF62E7877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, Inc., a subsidiary of DeVry Inc. (NYSE:D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office in OKC (Bricktow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Revenue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500 per-stud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verag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urses 88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nrolled in courses 74% (6,5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active 62% (5,5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lahom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udents 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nrolled courses 29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enrolled courses that are active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active courses on track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enrolled courses completed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A 2.00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E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OI (End of Instruction)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high school diploma will be the same as tradition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take year book picture, attend prom, walk at graduation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6:58:34Z</dcterms:created>
  <dc:creator>Andre Washington</dc:creator>
  <dc:description/>
  <dc:language>en-US</dc:language>
  <cp:lastModifiedBy>Andre Washington</cp:lastModifiedBy>
  <dcterms:modified xsi:type="dcterms:W3CDTF">2008-10-18T07:49:31Z</dcterms:modified>
  <cp:revision>6</cp:revision>
  <dc:subject/>
  <dc:title>Slide 1</dc:title>
</cp:coreProperties>
</file>